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6E88-F42C-4069-8008-478BE699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2F71-7DA1-4680-99B8-F5FA7B8F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DCCD-C8BD-4452-BA42-AC1ABDEF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63F-FD63-494E-B2BE-917AAA25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4EDB-2ECA-4007-BA10-78CAA67A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66D4-1786-43CA-9DF4-FE096EA2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48B-C6E7-460B-9209-A4D564B8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5AD-505E-437B-B432-91E7CB56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2ED8-9471-4834-AABA-02ABC21D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047-2FC7-4FC9-8717-0ABD9FC0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C28-D6EF-40F6-8DC8-B90B247D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820-EF94-48B7-8521-0019E389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00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2A1B-672F-48A2-A533-2CACF411A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00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Garamond"/>
              </a:rPr>
              <a:t>Bushfires and Planning in NS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3124080"/>
            <a:ext cx="7391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Garamond"/>
              </a:rPr>
              <a:t>Kerry Bedford</a:t>
            </a:r>
            <a:br>
              <a:rPr sz="3200"/>
            </a:br>
            <a:r>
              <a:rPr b="1" lang="en-US" sz="3200" spc="-1" strike="noStrike">
                <a:solidFill>
                  <a:srgbClr val="99ff99"/>
                </a:solidFill>
                <a:latin typeface="Garamond"/>
              </a:rPr>
              <a:t>Director, State and Regional Planning</a:t>
            </a:r>
            <a:br>
              <a:rPr sz="3200"/>
            </a:br>
            <a:r>
              <a:rPr b="1" lang="en-US" sz="3200" spc="-1" strike="noStrike">
                <a:solidFill>
                  <a:srgbClr val="99ff99"/>
                </a:solidFill>
                <a:latin typeface="Garamond"/>
              </a:rPr>
              <a:t>PlanningNSW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lanningNSWLogo" descr=""/>
          <p:cNvPicPr/>
          <p:nvPr/>
        </p:nvPicPr>
        <p:blipFill>
          <a:blip r:embed="rId1"/>
          <a:stretch/>
        </p:blipFill>
        <p:spPr>
          <a:xfrm>
            <a:off x="5483160" y="5638680"/>
            <a:ext cx="36576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00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velopment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pprov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ated developme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 risk’ developments referred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ral Fir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nsult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ith Rural Fire Service when the proposal does not comply wi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lanning for Bushfire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00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ntegrated develop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ools, child care centres, hosp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tels, motels, tourist accommo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sing for the aged and disabled (SEPP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tirement vill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oup homes (SEPP 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00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sign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division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rimeter road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e trail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oid steep sl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on level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services under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water storage on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tb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00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Setb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et Protection Zone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provide the separation between the hazard and the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buffer to reduce the fuel lev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in the development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ludes a fire trail or perimeter 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 land less than 18 degrees s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00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Asset Protection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ter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reases the intensity of a f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 to 15 me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el level of 8 tonnes per hec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ner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mum fuel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pth depends on slope and type of vege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 to 60 metres (85 for high risk develop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00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80880" y="1676520"/>
          <a:ext cx="838368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3836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wetlands%205" descr=""/>
          <p:cNvPicPr/>
          <p:nvPr/>
        </p:nvPicPr>
        <p:blipFill>
          <a:blip r:embed="rId1"/>
          <a:stretch/>
        </p:blipFill>
        <p:spPr>
          <a:xfrm>
            <a:off x="0" y="0"/>
            <a:ext cx="5413320" cy="3657600"/>
          </a:xfrm>
          <a:prstGeom prst="rect">
            <a:avLst/>
          </a:prstGeom>
          <a:ln w="0">
            <a:noFill/>
          </a:ln>
        </p:spPr>
      </p:pic>
      <p:pic>
        <p:nvPicPr>
          <p:cNvPr id="74" name="wetlands%206" descr=""/>
          <p:cNvPicPr/>
          <p:nvPr/>
        </p:nvPicPr>
        <p:blipFill>
          <a:blip r:embed="rId2"/>
          <a:stretch/>
        </p:blipFill>
        <p:spPr>
          <a:xfrm>
            <a:off x="3668760" y="3200400"/>
            <a:ext cx="5475240" cy="3657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638680" y="380880"/>
            <a:ext cx="1905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re trails: rear access and setb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5029200"/>
            <a:ext cx="32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 fire trails, no rear access, minimal se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971800" y="4724280"/>
            <a:ext cx="1905120" cy="10670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6019920"/>
            <a:ext cx="3124080" cy="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352680" y="1828800"/>
            <a:ext cx="1828800" cy="6094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2001%20bushfires%20from%20space" descr=""/>
          <p:cNvPicPr/>
          <p:nvPr/>
        </p:nvPicPr>
        <p:blipFill>
          <a:blip r:embed="rId1"/>
          <a:stretch/>
        </p:blipFill>
        <p:spPr>
          <a:xfrm>
            <a:off x="1981080" y="0"/>
            <a:ext cx="58676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4343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ning fo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ushfir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001%20bushfires%20from%20space" descr=""/>
          <p:cNvPicPr/>
          <p:nvPr/>
        </p:nvPicPr>
        <p:blipFill>
          <a:blip r:embed="rId1"/>
          <a:stretch/>
        </p:blipFill>
        <p:spPr>
          <a:xfrm>
            <a:off x="1981080" y="0"/>
            <a:ext cx="5867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114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cember 2001-January 2002 Bushfi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50,000 hect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8 counci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9 residential properties l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0 properties dam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lives l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00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tecting people and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itable land uses near bushl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od subdivision layout and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ings designed to resist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ging veg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intaining homes and gard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efighting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00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tecting people and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itable land uses near bushl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od subdivision layout and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ings designed to resist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ging veg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intaining homes and gard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efighting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00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New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 in Parli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ral Fires and Environmental Assessment Legislation Amendment Bill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mends both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ral Fires Act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vironmental Planning &amp; Assessment Act 19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00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 emergency powers for firefigh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ingle approval for bush fire hazar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ncils to map bushfire prone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e on s149 certif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s in bushfire prone areas must comply with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lanning for Bushfire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00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754360" y="919080"/>
          <a:ext cx="3633840" cy="501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4360" y="919080"/>
                    <a:ext cx="3633840" cy="50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00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ff"/>
                </a:solidFill>
                <a:latin typeface="Garamond"/>
              </a:rPr>
              <a:t>Planning for Bushfire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zoning of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approv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truction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inatenanc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00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zoning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allow appropriate uses near bush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w sufficient space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cces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for for firefighters and for evac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paratio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etween the fire source and the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equate water supply and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03:14:36Z</dcterms:created>
  <dc:creator>Little</dc:creator>
  <dc:description/>
  <dc:language>en-US</dc:language>
  <cp:lastModifiedBy>MP</cp:lastModifiedBy>
  <cp:lastPrinted>2002-06-14T02:07:42Z</cp:lastPrinted>
  <dcterms:modified xsi:type="dcterms:W3CDTF">2003-01-01T02:18:37Z</dcterms:modified>
  <cp:revision>51</cp:revision>
  <dc:subject/>
  <dc:title>Bushfire Issues in the EP&amp;A Act</dc:title>
</cp:coreProperties>
</file>