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E9F-4D73-47E2-9AB4-88B3607A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7BC-C9B6-4993-9A81-1331891E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CFD-76EF-44B6-93CB-8CA2FFBE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9738-F806-45E2-B2C5-C0A49F2C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9EA8-020E-4F5F-8FFE-E2FF42E3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A706-6269-4482-9BA7-4A0FB7F9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1CA9-93CD-4BEF-BC23-D26065A4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FED0-7448-449D-A1B6-D2DA0D35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46A4-4DA2-43BB-A30B-CF606FBD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C1A8-E2CA-4C3B-A303-AC826C2F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FCC9-B944-4CFB-A4F2-6E861540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CA6-0700-4A10-AB62-73E762CB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1D78-E01E-4D92-8BDD-5629BD38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79B7-6F7A-4507-A00A-603C5C12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8079-D287-40D5-88B9-BDCD553B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3563-FB60-415D-87D7-1765D8FC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EC39-58FF-4BCD-897F-1DCB61AB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71D-0543-4DA3-A6F5-53E868EC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BC9-5657-43D9-93F5-A7B98FD0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4A50-B3A0-47FA-8911-F7817942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6B6-5A89-49B3-9AC6-FDF92D5F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BB6-AC7A-47A2-A88A-B066111E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5BB-4539-47A7-9929-F0DF4B9D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833-4FFD-4C2C-BE87-03B1D598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97DB-ED22-4317-8B27-F266A3285B9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03A9-A891-4349-A6DB-70EB4AE2BF6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46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Rural Fires and Environmental Assessment Legislation Bill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hame Dougla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nager, Planning and Environment Servic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ompliance and Audit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cus on ensuring mitigation works are complied with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inkages to complaints proces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FCC may request Commissioner to do aud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FMCs to report on implementation of BFRMP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nnual reporting by Councils and agenci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Improved report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4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uncils to report on: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spectio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66 notic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bjection to S66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orks in default of complian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ertificates issued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mplementation of BFRMP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ublic authorities to report on implementation of HR and BFRMP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port to Parliament - RFS Annual Repor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Streamlined approval proces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ush fire hazard reduction works not land management activiti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Ps cannot require consent or prohibit H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xcluded lands – SEPP 14, SEPP 26, Regs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places other forms of approva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VC Act, TSC Act, EP&amp;A Act, POTEO Ac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ne stop shop for private lan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ertificate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erson(s) can apply to Counci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uncil must ensure that before issuing certificate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orks are consistent with BFRMP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forms to Bush Fire Environment Cod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nditions are imposed as necessar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pproves in 7 days, Certificate last 12 month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o fee, no appeal to refus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ailure to comply with certificate/code breach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Land Manager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PWS, NSWSF, catchment authorites, RTA, SRA, DLWC, Counci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lf certify consistent with code, BFRMP…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y certify neighbouring private lands where requested or if they approach neighbou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uncil to issue certificate prior to issuing s. 66 notice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Bush Fire Cod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repared by Commissioner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ust consult with agencies/stakeholder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ubject to ESD principles and S.111 of EP&amp;A Ac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raft code to be exhibited for 42 day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ust consider submissio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inister for Emergency Services must consult with Ministers for Environment, and Planning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ublic inspection at Counci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Bush Fire Danger Period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mmissioner can vary Danger Perio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ne off - consults with fire agenci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ermanent - consults with BFMC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FMC may request varia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mmissioner is appropriate authorit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ame powers in fire district (NSW Fire Brigades) and rural fire districts (RFS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Permit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ertificate needed before permit can be issued for bush fire hazard reduc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ther approvals needed for land clearance (eg NVC Act, TSC Act, EP&amp;A Act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pprovals not needed for stubble burning, diseased crops, grazing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SW FB and RFS to report to BFCC and annual report on permits issued and fire escape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Emergency situation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pprovals not needed for bush fire fighting emergency act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F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SW FB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PW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SWSF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nd owner can do emergency bush fire hazard reduction o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ow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land without approva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ush fire must be imminent and real threa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Bush Fire Fact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1295280"/>
            <a:ext cx="7086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ublic land managers also have to meet land management objectiv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bush was there fir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 are suffering past poor planning decis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nstruction stds help bu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nd owners need to reduce hazards on their l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 bush is also an asse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PZs in combination with other protection measures help bu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re are no guarante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90920" y="2743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ATELLITE IM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4" name="firensw02001n12-6z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Bush Fire Myth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ublic land managers have a duty to clear their land to protect private propert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nstruction standards can stop houses being destroy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 bush is fuel and needs to be manage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sset Protection Zones are not needed if we do broad area burn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FS is responsible for hazard reduc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Scope of Bill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velopment and Planning Control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mpliance and Auditing mitigation work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mproving Hazard Reduction Report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reamlined approval process of hazard reduc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ush Fire Danger Periods and Permi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mergency power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Development and Planning Control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apping of bush fire prone land by Counci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signation and certification by Commission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uncils must be satisfied that developmen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omplies with Planning for Bushfire Protec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f not, consult with local RF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egrated development for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bdivision (residential/rural residential purposes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pecial fire protection purpos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g SEPP 5, schools, hospitals, child car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0040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HO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Erowal%20Bay%20FPZ1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Information Requirements for Integrated Developmen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perty details – address, owner ……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nvironmental attributes – slope, vegetation classification, species…. On &amp; off site?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ush Fire Protection Measur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tbacks (OPA &amp; IPA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ater, roads, fire trail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vacuation measures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mparison with Planning for Bushfire Protec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7friar2" descr=""/>
          <p:cNvPicPr/>
          <p:nvPr/>
        </p:nvPicPr>
        <p:blipFill>
          <a:blip r:embed="rId2"/>
          <a:stretch/>
        </p:blipFill>
        <p:spPr>
          <a:xfrm>
            <a:off x="-152280" y="228600"/>
            <a:ext cx="9448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95480" y="3048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PHO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17friar4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2T23:35:09Z</dcterms:created>
  <dc:creator>Mark Douglas</dc:creator>
  <dc:description/>
  <dc:language>en-US</dc:language>
  <cp:lastModifiedBy>GrahameD</cp:lastModifiedBy>
  <dcterms:modified xsi:type="dcterms:W3CDTF">2002-06-25T04:53:37Z</dcterms:modified>
  <cp:revision>4</cp:revision>
  <dc:subject/>
  <dc:title>Rural Fires and Environmental Assessment Legislation Bill</dc:title>
</cp:coreProperties>
</file>