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0CE-43C2-44EC-8508-71987035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CAE-A77D-4167-A439-3E57E247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4D6-0029-4493-A2ED-B2E100B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60A-838A-4D45-8E37-A4BC94DA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10E-3B47-420A-9755-656E64E5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AB7-1D21-4BAF-A3CC-9738221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FB1-4817-4B90-B0E1-778EF1D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DAA-62FE-4506-BDFE-5AC087C8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785-9E22-4291-8439-6F3F3A4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3A1-6BF4-44DC-B57B-CB49A9D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3D1-A914-4EE3-B506-2911BA3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18-0D6D-48BE-85D7-DFD9130A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DBACKDROP" descr=""/>
          <p:cNvPicPr/>
          <p:nvPr/>
        </p:nvPicPr>
        <p:blipFill>
          <a:blip r:embed="rId2"/>
          <a:stretch/>
        </p:blipFill>
        <p:spPr>
          <a:xfrm>
            <a:off x="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4AE-57D3-46FC-80E7-2BACDCFB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OS_REDBACK" descr=""/>
          <p:cNvPicPr/>
          <p:nvPr/>
        </p:nvPicPr>
        <p:blipFill>
          <a:blip r:embed="rId3"/>
          <a:stretch/>
        </p:blipFill>
        <p:spPr>
          <a:xfrm>
            <a:off x="7238880" y="6095880"/>
            <a:ext cx="1800360" cy="59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295280"/>
            <a:ext cx="7315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OS_Logo" descr=""/>
          <p:cNvPicPr/>
          <p:nvPr/>
        </p:nvPicPr>
        <p:blipFill>
          <a:blip r:embed="rId1"/>
          <a:stretch/>
        </p:blipFill>
        <p:spPr>
          <a:xfrm>
            <a:off x="1523880" y="1522440"/>
            <a:ext cx="67057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gistration of Survey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3040" y="21337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 system of registration of surveyors is retain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Qualifications of Survey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2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current standards and requirements for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gistration as a surveyor are substantially retain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ome of the professional training requirements should be incorporated in the undergraduate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degree cours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aming of survey businesses and advertis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Industry specific restrictions on the naming and ownership of surveying firms and on advertising be removed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ame of the regulatory bo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Name of the regulatory body to become  Board of Surveying and Spatial Informatio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mbership of the regulatory bo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presentation on the Board include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representatives of government,surveyors, other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professional groups and a consumer representative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Board empowered to establish  Disciplinary Sub-committee to investigate complai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Serious complaints of professional misconduct referred to Administrative Decisions Tribunal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Joint administrati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oard sets standards, polic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dustry assess competencies,provide CP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cope covers Surveying and Spatial Information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Registration &amp; Accredit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gistration=statutory authority to undertake certain category of 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ccreditation=non-statutory recognition by Industry of competency in a discipline or category of wor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gnifies acceptance by Government to contribute to SDI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velopment of exposure draft Bi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e work to be done  with industry on definition of standards for accred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rther consultation with stakeholders on draft Bill and  implementation- July /Augu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esentation of Bill  to Parliament - September 200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mencement of Bill -200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 Significant Milestone!!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iew of Board of Surveyors &amp;  Proposed  Changes to the  Surveyors Act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ed By Paul Harcomb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form Dri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ational Competition Policy Review of Surveyors Act, 192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emier’s Review  of all Statutory Boar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ed  to modernise legis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form Driv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Recognition of broader view of cadast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Spatial Data Infrastructure &amp; Action Age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Recognition of knowledge specia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Quality Assurance of “Public Domain” Inform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CP Review completed after call for public submissions on Issues Pap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binet endorsed NCP Recommendations requiring legislative chang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oard initiates review of its role and purpos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Further Stakeholder consultation;Working party formed;Discussion paper developed and circulat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In April, at a stakeholder meeting involving ISA, AURISA, SMIC,IEMS,ACS,Education reps.- Agreement in Principl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In June, 2002, NSW Cabinet approved a number of amendments to the Surveyors Act, 192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Amendments encompass NCP outcomes and other reforms recognising broader spatial industry</a:t>
            </a:r>
            <a:r>
              <a:rPr b="0" lang="en-AU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proved Amendments</a:t>
            </a:r>
            <a:br>
              <a:rPr sz="3600"/>
            </a:b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-Objectives of the Ac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69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main objective of the Act is to produce, safeguard and maintain a STATE CADASTRE OF SPATIALLY REFERENCED INFORMATION through the regulation and qualification of cadastral  surveyor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scope of the Board be broadened to include the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upervision of mining surveyors.( Coal, Metalliferous and Quarry)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pproved Amend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04:32:04Z</dcterms:created>
  <dc:creator>windsorg</dc:creator>
  <dc:description/>
  <dc:language>en-US</dc:language>
  <cp:lastModifiedBy>MP</cp:lastModifiedBy>
  <cp:lastPrinted>2002-05-22T22:57:58Z</cp:lastPrinted>
  <dcterms:modified xsi:type="dcterms:W3CDTF">2003-01-01T06:36:27Z</dcterms:modified>
  <cp:revision>30</cp:revision>
  <dc:subject/>
  <dc:title>No Slide Title</dc:title>
</cp:coreProperties>
</file>